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6903-07C4-4F32-8B72-D6FD0866E96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15840" y="685800"/>
            <a:ext cx="50230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128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197-B6A9-4C44-A812-F5D266EB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B0A-432E-4275-A313-6E5CF357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EF6-7EF5-462C-BB36-84D2780C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9176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0460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7928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9176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0460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826-995B-4D2E-B059-E7C9786E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6FA1-8800-4EAA-A7C7-639E9312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E49D-366A-4310-A9F8-468DA61C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EE31-3B53-42E4-8667-F5CD06E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25BD-325D-4947-BC3D-A00A4893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EC50-7435-4D87-A259-B5CD0675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360" y="47592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EF04-CA9C-41F1-BC66-EC20B103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3738-04D5-457A-8902-032C536C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DCF-33F1-488B-979B-DD7B5B68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A1F4-9A85-4F01-B2C4-D9A7B90B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4966-FF8E-4AE7-BBFA-6CD09F5C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4C29-724C-45DF-B244-09EFB97B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2CB1-903C-4E76-B979-15129E73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9176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0460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7928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09176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0460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C61F-A31E-4AA7-B94B-3D6D1CEE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6C6-C7DB-42F5-ADC1-54A67643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AA4-4ED9-48E5-893F-27A75ED8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BDE-2C6C-4F16-949D-075A6118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360" y="47592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CE6-9893-404C-A21E-78D1237F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7B17-BD1C-4619-80FA-21465F58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BC5-317E-48E4-8628-D883D73A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266-5BA9-49C6-96B9-9471CCC3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2AB5-FD71-4084-8D28-9AFCFA3BCE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1F79-5138-49D8-A164-CBD04F37A4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linux-mtd.infradead.org/doc/ubifs_whitepaper.pdf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wn.net/Articles/284767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78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Embedded Linux BOF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7640" y="422100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y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 Linux Forum Architecture Group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Ottawa Linux Symposium – July 23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pagem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show details about every allocated (and virtual) page on th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es PSS and USS size metr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S = Proportional Set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S = Unique Set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C 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671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elenic.com/repo/pagemap/raw-file/tip/memory-profiling.ht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WN.net artic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671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lwn.net/Articles/230975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ization to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671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elenic.com/repo/pagema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6.26 kernel highligh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GD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lly have a mainlined in-kernel debug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lock framework, clock driver and CPUfreq stuff on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ing in 2.6.27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Tra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one…, anyone…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echnology Re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ootup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ystem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iddle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up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ync initlev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patch by Arjan van de V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s some driver initialization in parallel with other boot t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 http://lkml.org/lkml/2008/7/18/4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ux-t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cently got CONSOLE_TRANSLATIONS mainl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xt logical patches are ETHTOOL and IG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loatwatch 2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 ELC 2008 (April), Matt Mackall released Bloatwatch 2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ool to show kernel size regression (and to investigate size problem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http://www.selenic.com/bloatwatch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tion Sections (see next pag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unction Se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Function sections" is a technique for reducing the size of the kernel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sists of patches by Denys Vlasenko to support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cc -ffunction-sections -fdata-section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s each function into it's own linker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allows the linker to do better dead code removal (using “ld –gc-sections”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nys reported that usage of this technique got him about a 10% reduction in kernel size (in some condition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ile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quash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X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g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BI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quash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pressed read-only file system, with smaller compression than Cram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test release is 3.3, released Feb 5,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s been a flurry of recent activity, leading up to Squashfs v. 4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illip Lougher is working to mainline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F is working to fund this eff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AX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dvanced XIP file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n profile applications, and only use XIP on some blo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ows for fine-grained control over how much flash vs. RAM is used for an application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 to OLS Session Friday at 11:00 am for the latest inf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g New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Version Highl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Watch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n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BI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 system build on UBI (flash block) instead of block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kia recently (April) submitted v 3.0 for mainline i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2760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linux-mtd.infradead.org/doc/ubifs_whitepaper.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og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flash filesystem by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Jörn Eng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solve scalability problems with JFFS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gFS keeps filesystem meta-data on flash instead of in 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es not need to read lots of meta-data on mou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reduces mount time (and system boot ti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ut, it has some outstanding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ra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Tr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TTng (and Mark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ystemT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intk-time arch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 Trace (ftrac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lation and generalization of latency-trace system from RT-preempt pa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go Molnar and Steven Rostedt are primary develo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iler instrumentation of kernel functions (gcc -mcou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multiple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16 submitted in mid-Ju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ready in linux-t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should put KFT on top of FTr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Other Trac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TTng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rkers infrastructure mainlined in 2.6.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xt to mainline is actual LTTng c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 to OLS session Friday 10:00 for more in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ystemTa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ce system, but compilation step was not cross-compile a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Lineo Solutions has demonstrated support for cross-execution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needed for embedded platforms (e.g. Kprobes for M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 to OLS Session Thursday at 14:00 for a Script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rintk-times arch sup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latforms have bad timer resolution for printk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ecur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SM framework removed from kernel in 2.6.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s some impact on non-mainlined security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moyo Linux, App Am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pp Armour has more bad n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Armour group was let go from Nov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e http://www.news.com/8301-13580_3-9796140-39.ht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mbedded SELinux (see next pag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Embedded SELinu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has been much progress recently to support SELinux in the embedded spa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s filesytem with extended attribu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flash filesystems do not support xatt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uichi Nakamura has described an embedded configuration of SELinux in as little as 700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OLS Session Friday at 14:00 for more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wer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ows timers and power state du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eed support for CPUIdle, in order to show C-state (power state) activity for non-Intel process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chard Woodruff did support for TI OM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Hey other semi-conductor vendors, what are YOU doing?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ock Frameworks – need more arch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olfson voltage regulator stu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ELC talks for presentations on all of the above – http://www.embeddedlinuxconference.com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-preem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ncy tracer is being pushed to mai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aining large pieces seem to have stalled getting to main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readed interrup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leeping spinloc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ways needs tuning to make it work on a new plat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uning notes published at ELC 2008 (Frank Rowan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enomai emulation layer for legacy RTOS application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ddle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L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F hosted the first ever open source DLNA summit, in Linz Aust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F has donated several DLNA specifications to open source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dlna-dev mailing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rocess of obtaining sample hardware for various DLNA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LNA summit #2 planned for ELC-Europe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IG Community News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-embedded mailing list has been created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now “Embedded Linux” maintainers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Andrew Morton talk at Embedded Linux Conference, and succeeding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, Andrew worked behind-the-scenes to help make these things hap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bile Phone New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n Handset Alliance and Android platfor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waiting for deployment in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M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 4 - announced their Linux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s based on LIMO have shipped in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LIMO press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mofoundation.org/press-releases/limo-press-releases/limo-rolls-out-world-s-first-globally-competitive-linux-based-software-platform-for-mobile-devic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nMoko becoming avail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ursday Keynote – 16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kia buys out Symbian with plans to make it available as open source (!!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tus Re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uxDevices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linuxdevices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WN.net kernel p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lwn.net/Kernel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ticles sorted by top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lwn.net/Kernel/Index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ux Weather Foreca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linux-foundation.org/en/Linux_Weather_Forec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mbedded Linux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ttp://elinux.or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elinux.org/Technology_Watch_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echnology Watch 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E Linux Forum maintains a list of technologies that we are "watching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ngs we are interested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ind of like the Kernel Weather Forecast, but with focus on embe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st is reported on and updated at CELF meet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ge is on elinux wik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elinux.org/Technology_Watch_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ge is now up-to-date (most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pen Discus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Topics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8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aking control of the kernel from desktop and enterprise guy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8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y favorite quote this week from a mainframe guy: “Sorry for all the bloat the last couple of years…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8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Thanks!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979280" y="3068280"/>
            <a:ext cx="62485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’re all invited to come to the CELF Embedded Developer B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Westin Ho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iday, July 25, 7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Arial"/>
              </a:rPr>
              <a:t>There will be prizes!!! (but no food </a:t>
            </a:r>
            <a:r>
              <a:rPr b="0" lang="en-GB" sz="2800" spc="-1" strike="noStrike">
                <a:solidFill>
                  <a:srgbClr val="ff5050"/>
                </a:solidFill>
                <a:latin typeface="Wingdings"/>
                <a:ea typeface="Wingdings"/>
              </a:rPr>
              <a:t></a:t>
            </a:r>
            <a:r>
              <a:rPr b="0" lang="en-GB" sz="2800" spc="-1" strike="noStrike">
                <a:solidFill>
                  <a:srgbClr val="ff505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-embedded mailing 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now the main list for kernel-related embedded patches and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er traffic than LKML – should be much easier to w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cal discussions about the kernel should be moved here from linux-tiny, celinux-dev, and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subscribe and access archiv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vger.kernel.org/vger-lists.html#linux-embe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hould subscrib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embedded Linux maintain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vid Woodhouse – MTD/JFFS2/OLPC gu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ul Gortmaker – longtime kernel develo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rack of patches and technology development related to embe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 stuff that has no other h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LWN.net interview of maintainers 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lwn.net/Articles/284767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rnel Highligh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ious kernel highl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6.26 highl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ing in 2.6.2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esting patches (Tim’s li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6.24 Kernel Highligh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ma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adable Security Modules framework was remo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M Quality of Service (Q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ar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frastructure in kernel for static instru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probes are for dynamic instr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d by SystemTap and Linux Trace Toolkit(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oal is very low overhead when not in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e compare, using immediate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o memory access or cache/TLB usage iss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's a new system to replace immediate values in kernel code, while the kernel is running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“tracepoint” feature (see Matthieu Desnoyer’s presentation – Friday 10: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6.25 Kernel Highligh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page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t Mackall's patches for fine-grained memory instrumentation (more on next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ncy measurement A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for LatencyT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 http://lwn.net/Articles/26615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CK - simple mandatory access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w lightweight MAC system for kernel, by Casey Schauf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 to OLS Session Saturday at 10:00 for more info (“SMACK in embedded computing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1:32:36Z</dcterms:created>
  <dc:creator>Tim Bird</dc:creator>
  <dc:description/>
  <dc:language>en-US</dc:language>
  <cp:lastModifiedBy>Tim Bird</cp:lastModifiedBy>
  <dcterms:modified xsi:type="dcterms:W3CDTF">2008-07-23T19:48:10Z</dcterms:modified>
  <cp:revision>40</cp:revision>
  <dc:subject/>
  <dc:title>Embedded-Linux-BOF</dc:title>
</cp:coreProperties>
</file>